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1.wmf" ContentType="image/x-wmf"/>
  <Override PartName="/ppt/media/image8.jpeg" ContentType="image/jpeg"/>
  <Override PartName="/ppt/media/image5.jpeg" ContentType="image/jpeg"/>
  <Override PartName="/ppt/media/image3.gif" ContentType="image/gif"/>
  <Override PartName="/ppt/media/image6.png" ContentType="image/png"/>
  <Override PartName="/ppt/media/image10.wmf" ContentType="image/x-wmf"/>
  <Override PartName="/ppt/media/image7.wmf" ContentType="image/x-wmf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DF4-8623-4F28-AF73-3C12ABD3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615-D24A-48E5-B535-14396E63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4739-A862-43A2-89C8-EF604A5C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CFD5-291C-4A6B-8797-F7E2E45A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E30-7CBC-47E7-AFEC-7442E620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FE3-8AF5-4D2F-B2CB-F3B54D3D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0E7C-4EAC-43F7-8270-FF51A693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CA07-1F02-4D8F-B1AB-96158266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65FE-113A-4B8D-BA1B-9AF05023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FDA-DAA2-4BD7-AD1B-667DEAF2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7AA-7075-4731-AC10-76E47C59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642-83EB-4B9E-B14C-66194A30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37CE-B6D4-40F5-B89C-79686D0F073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mag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43440" y="1581120"/>
            <a:ext cx="4958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Seminario CINIG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10 Maggio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Dott. Salvatore Pinizzo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Managing Director Xida L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Image3 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ffffff"/>
                </a:solidFill>
                <a:latin typeface="Arial"/>
              </a:rPr>
              <a:t>Chi dovrebbe essere coinvolto nella Stewardship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1040" y="1295280"/>
            <a:ext cx="85446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La prima immediata risposta è : tutti coloro che in qualche misura hanno avut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che fare con il prodot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In realtà bisogna ben definire chi partecipa al processo di stewardship. In Europ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Giappone e Corea la responsabilità della gestione degli impatti ambientali di 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prodotto o di un servizio è generalmente assegnata ad uno solo dei partecipan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nel ciclo di vita del prodotto, di solito colui che vende il prodot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Nel concetto di stewardship è invece implicito il tentativo di impegnare ciasc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partecipante, a qualsiasi punto del ciclo di vita del prodotto, a condividere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responsabilità. Quindi non solo consumatori/utilizzatori, dai quali sareb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lecito aspettarsi un uso e una dismissione responsabile del prodotto, ma anc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riciclatori  e gestori di rifiuti e chiunque venga in contatto con il prodotto a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fine del ciclo di v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Image3 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104" name="Green_Lead_Grn_Battery_Banner" descr=""/>
          <p:cNvPicPr/>
          <p:nvPr/>
        </p:nvPicPr>
        <p:blipFill>
          <a:blip r:embed="rId2"/>
          <a:stretch/>
        </p:blipFill>
        <p:spPr>
          <a:xfrm>
            <a:off x="914400" y="228600"/>
            <a:ext cx="7143840" cy="695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35800" y="1295280"/>
            <a:ext cx="66409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Obiettivo : Gestione Responsabile del Ciclo di Vita del Piom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Settore: Batterie Auto – 75% del mercato totale del piom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2819520"/>
            <a:ext cx="685800" cy="1143000"/>
          </a:xfrm>
          <a:prstGeom prst="downArrow">
            <a:avLst>
              <a:gd name="adj1" fmla="val 50000"/>
              <a:gd name="adj2" fmla="val 4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9360" y="4343400"/>
            <a:ext cx="762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dentificazione degli impatti ambientali associati al piom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dentificazione di procedure per minimizzare o eliminare questi impa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556236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Image3 banner"/>
          <p:cNvPicPr/>
          <p:nvPr/>
        </p:nvPicPr>
        <p:blipFill>
          <a:blip r:embed="rId2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110" name="Green_Lead_Grn_Battery_Banner" descr=""/>
          <p:cNvPicPr/>
          <p:nvPr/>
        </p:nvPicPr>
        <p:blipFill>
          <a:blip r:embed="rId3"/>
          <a:stretch/>
        </p:blipFill>
        <p:spPr>
          <a:xfrm>
            <a:off x="914400" y="228600"/>
            <a:ext cx="714384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381880" cy="5486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Image3 banner"/>
          <p:cNvPicPr/>
          <p:nvPr/>
        </p:nvPicPr>
        <p:blipFill>
          <a:blip r:embed="rId2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113" name="Green_Lead_Grn_Battery_Banner" descr=""/>
          <p:cNvPicPr/>
          <p:nvPr/>
        </p:nvPicPr>
        <p:blipFill>
          <a:blip r:embed="rId3"/>
          <a:stretch/>
        </p:blipFill>
        <p:spPr>
          <a:xfrm>
            <a:off x="914400" y="228600"/>
            <a:ext cx="7143840" cy="695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02760" y="5562720"/>
            <a:ext cx="7151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on la licenza “Green Lead” i produttori di batterie potran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acquistare solo piombo proveniente da un impianto, primario e/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econdario certificato  “Green Lead”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batthous1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400800" cy="457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Image3 banner"/>
          <p:cNvPicPr/>
          <p:nvPr/>
        </p:nvPicPr>
        <p:blipFill>
          <a:blip r:embed="rId2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117" name="Green_Lead_Grn_Battery_Banner" descr=""/>
          <p:cNvPicPr/>
          <p:nvPr/>
        </p:nvPicPr>
        <p:blipFill>
          <a:blip r:embed="rId3"/>
          <a:stretch/>
        </p:blipFill>
        <p:spPr>
          <a:xfrm>
            <a:off x="914400" y="228600"/>
            <a:ext cx="714384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batbreak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38840" cy="46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Image3 banner"/>
          <p:cNvPicPr/>
          <p:nvPr/>
        </p:nvPicPr>
        <p:blipFill>
          <a:blip r:embed="rId2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120" name="Green_Lead_Grn_Battery_Banner" descr=""/>
          <p:cNvPicPr/>
          <p:nvPr/>
        </p:nvPicPr>
        <p:blipFill>
          <a:blip r:embed="rId3"/>
          <a:stretch/>
        </p:blipFill>
        <p:spPr>
          <a:xfrm>
            <a:off x="914400" y="228600"/>
            <a:ext cx="714384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7924680" cy="5333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Image3 banner"/>
          <p:cNvPicPr/>
          <p:nvPr/>
        </p:nvPicPr>
        <p:blipFill>
          <a:blip r:embed="rId2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123" name="Green_Lead_Grn_Battery_Banner" descr=""/>
          <p:cNvPicPr/>
          <p:nvPr/>
        </p:nvPicPr>
        <p:blipFill>
          <a:blip r:embed="rId3"/>
          <a:stretch/>
        </p:blipFill>
        <p:spPr>
          <a:xfrm>
            <a:off x="914400" y="228600"/>
            <a:ext cx="7143840" cy="695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6280" y="5562720"/>
            <a:ext cx="867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 rivenditori di batterie dovranno gestire un apposito fondo di deposito/rimbo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otto stretto controllo governativo che riduca notevolmente le possibilità per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ettore “informale” di ottenere batterie us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381880" cy="5333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Image3 banner"/>
          <p:cNvPicPr/>
          <p:nvPr/>
        </p:nvPicPr>
        <p:blipFill>
          <a:blip r:embed="rId2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127" name="Green_Lead_Grn_Battery_Banner" descr=""/>
          <p:cNvPicPr/>
          <p:nvPr/>
        </p:nvPicPr>
        <p:blipFill>
          <a:blip r:embed="rId3"/>
          <a:stretch/>
        </p:blipFill>
        <p:spPr>
          <a:xfrm>
            <a:off x="914400" y="228600"/>
            <a:ext cx="7143840" cy="695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1320" y="5562720"/>
            <a:ext cx="876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Un’unica eccezione: La vendita delle batterie usate a un impianto di raffin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ertificato “Green Lead”. In questo caso coloro che lavorano nel settore infor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ossono diventare fornitori “ufficiali” di batterie us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153640" cy="4962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Image3 banner"/>
          <p:cNvPicPr/>
          <p:nvPr/>
        </p:nvPicPr>
        <p:blipFill>
          <a:blip r:embed="rId2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131" name="Green_Lead_Grn_Battery_Banner" descr=""/>
          <p:cNvPicPr/>
          <p:nvPr/>
        </p:nvPicPr>
        <p:blipFill>
          <a:blip r:embed="rId3"/>
          <a:stretch/>
        </p:blipFill>
        <p:spPr>
          <a:xfrm>
            <a:off x="914400" y="228600"/>
            <a:ext cx="7143840" cy="695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920" y="5546880"/>
            <a:ext cx="8570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Il Progetto Green Lead permette quindi di sviluppare solide pratiche ambiental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migliorare le condizioni di lavoro e definire un valido  programma di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steward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Image3 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134" name="Green_Lead_Grn_Battery_Banner" descr=""/>
          <p:cNvPicPr/>
          <p:nvPr/>
        </p:nvPicPr>
        <p:blipFill>
          <a:blip r:embed="rId2"/>
          <a:stretch/>
        </p:blipFill>
        <p:spPr>
          <a:xfrm>
            <a:off x="914400" y="228600"/>
            <a:ext cx="7143840" cy="695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2320" y="1219320"/>
            <a:ext cx="8832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reen Lead un investimento per il futu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a Certificazione “Green Lead” è garanzia di solide pratiche attraverso tutto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iclo di vita del prodot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sicura che in tutto il ciclo vengano utilizzati gli stessi protocolii di prodotto 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tic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menta l’informazione verso il pubblico che così è in grado di fare una scelta pi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sponsabile al momento dell’acquisto del prodot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arantisce la cerificazione da parti terze per salvaguardare l’integrità di Green Le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e simbolo di Sostenibilità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coraggia la collaborazione tra fornitori e utilizza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minuisce l’accesso del settore informale al mercato delle batterie usa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Diagram 3"/>
          <p:cNvGrpSpPr/>
          <p:nvPr/>
        </p:nvGrpSpPr>
        <p:grpSpPr>
          <a:xfrm>
            <a:off x="1753560" y="2030400"/>
            <a:ext cx="5572440" cy="3574800"/>
            <a:chOff x="1753560" y="2030400"/>
            <a:chExt cx="5572440" cy="3574800"/>
          </a:xfrm>
        </p:grpSpPr>
        <p:sp>
          <p:nvSpPr>
            <p:cNvPr id="44" name="_s1028"/>
            <p:cNvSpPr/>
            <p:nvPr/>
          </p:nvSpPr>
          <p:spPr>
            <a:xfrm>
              <a:off x="2853000" y="2069280"/>
              <a:ext cx="1923120" cy="1838160"/>
            </a:xfrm>
            <a:custGeom>
              <a:avLst/>
              <a:gdLst>
                <a:gd name="textAreaLeft" fmla="*/ 0 w 1923120"/>
                <a:gd name="textAreaRight" fmla="*/ 1923480 w 1923120"/>
                <a:gd name="textAreaTop" fmla="*/ 0 h 1838160"/>
                <a:gd name="textAreaBottom" fmla="*/ 1838520 h 183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_s1029"/>
            <p:cNvSpPr/>
            <p:nvPr/>
          </p:nvSpPr>
          <p:spPr>
            <a:xfrm rot="3600000">
              <a:off x="3663360" y="2451600"/>
              <a:ext cx="1838160" cy="1923480"/>
            </a:xfrm>
            <a:custGeom>
              <a:avLst/>
              <a:gdLst>
                <a:gd name="textAreaLeft" fmla="*/ 0 w 1838160"/>
                <a:gd name="textAreaRight" fmla="*/ 1838520 w 1838160"/>
                <a:gd name="textAreaTop" fmla="*/ 0 h 1923480"/>
                <a:gd name="textAreaBottom" fmla="*/ 1923840 h 192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_s1030"/>
            <p:cNvSpPr/>
            <p:nvPr/>
          </p:nvSpPr>
          <p:spPr>
            <a:xfrm rot="7200000">
              <a:off x="3663360" y="3300120"/>
              <a:ext cx="1838160" cy="1923480"/>
            </a:xfrm>
            <a:custGeom>
              <a:avLst/>
              <a:gdLst>
                <a:gd name="textAreaLeft" fmla="*/ 0 w 1838160"/>
                <a:gd name="textAreaRight" fmla="*/ 1838520 w 1838160"/>
                <a:gd name="textAreaTop" fmla="*/ 0 h 1923480"/>
                <a:gd name="textAreaBottom" fmla="*/ 1923840 h 192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_s1031"/>
            <p:cNvSpPr/>
            <p:nvPr/>
          </p:nvSpPr>
          <p:spPr>
            <a:xfrm rot="10800000">
              <a:off x="2853000" y="3766680"/>
              <a:ext cx="1923120" cy="1838520"/>
            </a:xfrm>
            <a:custGeom>
              <a:avLst/>
              <a:gdLst>
                <a:gd name="textAreaLeft" fmla="*/ 0 w 1923120"/>
                <a:gd name="textAreaRight" fmla="*/ 1923480 w 1923120"/>
                <a:gd name="textAreaTop" fmla="*/ 0 h 1838520"/>
                <a:gd name="textAreaBottom" fmla="*/ 1838880 h 18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_s1032"/>
            <p:cNvSpPr/>
            <p:nvPr/>
          </p:nvSpPr>
          <p:spPr>
            <a:xfrm rot="14400000">
              <a:off x="2126880" y="3299760"/>
              <a:ext cx="1838160" cy="1923480"/>
            </a:xfrm>
            <a:custGeom>
              <a:avLst/>
              <a:gdLst>
                <a:gd name="textAreaLeft" fmla="*/ 0 w 1838160"/>
                <a:gd name="textAreaRight" fmla="*/ 1838520 w 1838160"/>
                <a:gd name="textAreaTop" fmla="*/ 0 h 1923480"/>
                <a:gd name="textAreaBottom" fmla="*/ 1923840 h 192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_s1033"/>
            <p:cNvSpPr/>
            <p:nvPr/>
          </p:nvSpPr>
          <p:spPr>
            <a:xfrm rot="18000000">
              <a:off x="2126880" y="2451240"/>
              <a:ext cx="1838160" cy="1923480"/>
            </a:xfrm>
            <a:custGeom>
              <a:avLst/>
              <a:gdLst>
                <a:gd name="textAreaLeft" fmla="*/ 0 w 1838160"/>
                <a:gd name="textAreaRight" fmla="*/ 1838520 w 1838160"/>
                <a:gd name="textAreaTop" fmla="*/ 0 h 1923480"/>
                <a:gd name="textAreaBottom" fmla="*/ 1923840 h 192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_s1034"/>
            <p:cNvSpPr/>
            <p:nvPr/>
          </p:nvSpPr>
          <p:spPr>
            <a:xfrm>
              <a:off x="2611800" y="4897080"/>
              <a:ext cx="71532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raspor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_s1035"/>
            <p:cNvSpPr/>
            <p:nvPr/>
          </p:nvSpPr>
          <p:spPr>
            <a:xfrm>
              <a:off x="1764360" y="3495240"/>
              <a:ext cx="71568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oduzi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1036"/>
            <p:cNvSpPr/>
            <p:nvPr/>
          </p:nvSpPr>
          <p:spPr>
            <a:xfrm>
              <a:off x="4304880" y="2090160"/>
              <a:ext cx="71568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0" lang="en-GB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Utilizz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_s1037"/>
            <p:cNvSpPr/>
            <p:nvPr/>
          </p:nvSpPr>
          <p:spPr>
            <a:xfrm>
              <a:off x="4304880" y="4897080"/>
              <a:ext cx="71568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0" lang="en-GB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im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0" lang="en-GB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affinazi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1038"/>
            <p:cNvSpPr/>
            <p:nvPr/>
          </p:nvSpPr>
          <p:spPr>
            <a:xfrm>
              <a:off x="2610000" y="2091600"/>
              <a:ext cx="71568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raspor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1039"/>
            <p:cNvSpPr/>
            <p:nvPr/>
          </p:nvSpPr>
          <p:spPr>
            <a:xfrm>
              <a:off x="5152320" y="3493800"/>
              <a:ext cx="71568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iutilizzazione/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iciclaggi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1041"/>
            <p:cNvSpPr/>
            <p:nvPr/>
          </p:nvSpPr>
          <p:spPr>
            <a:xfrm>
              <a:off x="6336720" y="2163960"/>
              <a:ext cx="989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   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ncenerimento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    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Dispersione/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   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nterr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AutoShape 18"/>
            <p:cNvSpPr/>
            <p:nvPr/>
          </p:nvSpPr>
          <p:spPr>
            <a:xfrm rot="10800000">
              <a:off x="5284800" y="2030400"/>
              <a:ext cx="1191960" cy="644760"/>
            </a:xfrm>
            <a:prstGeom prst="leftArrow">
              <a:avLst>
                <a:gd name="adj1" fmla="val 50000"/>
                <a:gd name="adj2" fmla="val 63779"/>
              </a:avLst>
            </a:prstGeom>
            <a:solidFill>
              <a:srgbClr val="8795a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AutoShape 20"/>
          <p:cNvSpPr/>
          <p:nvPr/>
        </p:nvSpPr>
        <p:spPr>
          <a:xfrm>
            <a:off x="5943600" y="4952880"/>
            <a:ext cx="1224000" cy="692280"/>
          </a:xfrm>
          <a:prstGeom prst="leftArrow">
            <a:avLst>
              <a:gd name="adj1" fmla="val 50000"/>
              <a:gd name="adj2" fmla="val 60998"/>
            </a:avLst>
          </a:prstGeom>
          <a:solidFill>
            <a:srgbClr val="8795a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_s1038"/>
          <p:cNvSpPr/>
          <p:nvPr/>
        </p:nvSpPr>
        <p:spPr>
          <a:xfrm>
            <a:off x="7467480" y="4952880"/>
            <a:ext cx="728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Est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Image3 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ffffff"/>
                </a:solidFill>
                <a:latin typeface="Arial"/>
              </a:rPr>
              <a:t>Life Cycle Think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Image3 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ffffff"/>
                </a:solidFill>
                <a:latin typeface="Arial"/>
              </a:rPr>
              <a:t>Riciclaggio del Nich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438280"/>
            <a:ext cx="1905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it-IT" sz="1800" spc="-1" strike="noStrike">
                <a:solidFill>
                  <a:srgbClr val="000000"/>
                </a:solidFill>
                <a:latin typeface="Calibri"/>
              </a:rPr>
              <a:t>Nichel prim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0000" y="3429000"/>
            <a:ext cx="1858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alibri"/>
              </a:rPr>
              <a:t>Nichel second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it-IT" sz="1800" spc="-1" strike="noStrike">
                <a:solidFill>
                  <a:srgbClr val="000000"/>
                </a:solidFill>
                <a:latin typeface="Calibri"/>
              </a:rPr>
              <a:t>Rott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2362320"/>
            <a:ext cx="18716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Usi Primar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ciaio In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ciai Leg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nde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Galva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l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2362320"/>
            <a:ext cx="18716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anufat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eni Industri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eni di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8680" y="3657600"/>
            <a:ext cx="1600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Fine di V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162920" y="43434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Rifi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323760" y="4876920"/>
            <a:ext cx="121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it-IT" sz="1800" spc="-1" strike="noStrike">
                <a:solidFill>
                  <a:srgbClr val="000000"/>
                </a:solidFill>
                <a:latin typeface="Calibri"/>
              </a:rPr>
              <a:t>Recup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009560" y="5715000"/>
            <a:ext cx="1600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nterr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562720" y="579132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Riciclag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31520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343040" y="2057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895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2666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809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152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7732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447920" y="59436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447920" y="4114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71464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4114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Image3 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ffffff"/>
                </a:solidFill>
                <a:latin typeface="Arial"/>
              </a:rPr>
              <a:t>Il Prezzo del Nich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spot-nickel-5y-Large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72010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Image3 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ffffff"/>
                </a:solidFill>
                <a:latin typeface="Arial"/>
              </a:rPr>
              <a:t>Life Cycle Costing:  Autobus in Acciao Inox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103640" y="3706920"/>
            <a:ext cx="5040360" cy="3151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1066680"/>
            <a:ext cx="4680000" cy="3165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932360" y="1392120"/>
            <a:ext cx="403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4600">
              <a:lnSpc>
                <a:spcPct val="100000"/>
              </a:lnSpc>
              <a:spcBef>
                <a:spcPts val="1125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isparmio di pe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100000"/>
              </a:lnSpc>
              <a:spcBef>
                <a:spcPts val="1125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esistenza alla deform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100000"/>
              </a:lnSpc>
              <a:spcBef>
                <a:spcPts val="1125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o corro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100000"/>
              </a:lnSpc>
              <a:spcBef>
                <a:spcPts val="1125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o processi galvan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4653000"/>
            <a:ext cx="338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4600">
              <a:lnSpc>
                <a:spcPct val="100000"/>
              </a:lnSpc>
              <a:spcBef>
                <a:spcPts val="1125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Ingombri min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100000"/>
              </a:lnSpc>
              <a:spcBef>
                <a:spcPts val="1125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Assenza di manute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100000"/>
              </a:lnSpc>
              <a:spcBef>
                <a:spcPts val="1125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Riciclabi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52280" y="903240"/>
          <a:ext cx="8915400" cy="5694480"/>
        </p:xfrm>
        <a:graphic>
          <a:graphicData uri="http://schemas.openxmlformats.org/drawingml/2006/table">
            <a:tbl>
              <a:tblPr/>
              <a:tblGrid>
                <a:gridCol w="2819520"/>
                <a:gridCol w="2895480"/>
                <a:gridCol w="304920"/>
                <a:gridCol w="28954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st of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nflation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5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eal interest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4.7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sired LCC 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20.0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owntime per maintenance/replacement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.0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Value of lost p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01 US $ /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TAINLESS STE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ARBON STE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aterial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.3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.3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abrication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25.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26.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ther installation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2.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4.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TAL INITIAL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0.8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2.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aintenance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.4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eplacemen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2.8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Lost p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Material-related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TAL OPERATING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4.4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TAL LCC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0.8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6.4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08000" y="4221000"/>
            <a:ext cx="8928000" cy="432000"/>
          </a:xfrm>
          <a:prstGeom prst="rect">
            <a:avLst/>
          </a:prstGeom>
          <a:solidFill>
            <a:srgbClr val="ffff99">
              <a:alpha val="26000"/>
            </a:srgbClr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3" descr="Image3 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ffffff"/>
                </a:solidFill>
                <a:latin typeface="Arial"/>
              </a:rPr>
              <a:t>Life Cycle Costing:  Autobus in Acciao Inox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447920"/>
            <a:ext cx="2286000" cy="17524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SH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1600200"/>
            <a:ext cx="2286000" cy="16002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NOLO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572000"/>
            <a:ext cx="2286000" cy="18288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GISL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j0282747" descr=""/>
          <p:cNvPicPr/>
          <p:nvPr/>
        </p:nvPicPr>
        <p:blipFill>
          <a:blip r:embed="rId1"/>
          <a:stretch/>
        </p:blipFill>
        <p:spPr>
          <a:xfrm>
            <a:off x="3809880" y="205740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91320" y="3581280"/>
            <a:ext cx="3124080" cy="2438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REDENZI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MBIENT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Image3 banner"/>
          <p:cNvPicPr/>
          <p:nvPr/>
        </p:nvPicPr>
        <p:blipFill>
          <a:blip r:embed="rId2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ffffff"/>
                </a:solidFill>
                <a:latin typeface="Arial"/>
              </a:rPr>
              <a:t>Principali Drivers Nella Scelta dei Material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429000"/>
            <a:ext cx="2286000" cy="18288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S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Image3 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ffffff"/>
                </a:solidFill>
                <a:latin typeface="Arial"/>
              </a:rPr>
              <a:t>Credenziali Ambiental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2120" y="1676520"/>
            <a:ext cx="8921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l è l’impatto ambientale dell’uso di nichel per costruire nuo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ntrali Elettriche o dell’estrarre zinco per l’industria automobilistic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 vogliamo porci come obiettivo il criterio della sostenibilità del nostro prodotto  qual è il materiale giusto da utilizzare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e è stato prodotto? Come può essere massimizzato il suo potenziale riutilizzo e riciclaggi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438280" y="5334120"/>
            <a:ext cx="4191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tewardship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4267080"/>
            <a:ext cx="762120" cy="914400"/>
          </a:xfrm>
          <a:prstGeom prst="downArrow">
            <a:avLst>
              <a:gd name="adj1" fmla="val 50000"/>
              <a:gd name="adj2" fmla="val 2999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Image3 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ffffff"/>
                </a:solidFill>
                <a:latin typeface="Arial"/>
              </a:rPr>
              <a:t>Credenziali Ambientali (continu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1295280"/>
            <a:ext cx="77724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molti settori industriali come l’elettronica, l’automobilistico, l’edilizia e in gran parte dell’industria pesante le caratteristiche che maggiormente mettono in evidenza l’impatto ambientale e la loro sostenibilità sono entrati di diritto  tra  i criteri di selezione dei materi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 crescente numero di aziende richiede espressamente che i materiali da loro scelti non comportino rischi e costi non necessa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alcuni casi le stesse aziende ricercano proattivamente materiali che   migliorino le performance ambientali e di sostenibilità dei propri prodotti durante tutto il loro ciclo di v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Image3 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ffffff"/>
                </a:solidFill>
                <a:latin typeface="Arial"/>
              </a:rPr>
              <a:t>Stewardshi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44792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l termine</a:t>
            </a:r>
            <a:r>
              <a:rPr b="1" i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tewardship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si riferisce alla gestione e cura del materiale durante tutto il suo ciclo di vita, dalla esplorazione, alla estrazione, alla raffinazione fino al suo uso e riciclagg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 termini pratici la </a:t>
            </a:r>
            <a:r>
              <a:rPr b="1" i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tewardship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non è altro che un programma integrato di azioni che garantisca che tutti i materiali, i processi, i beni e i servizi vengano gestiti in modo socialmente e ecologicamente responsabile durante il ciclo di vita del prodot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’obiettivo è quello di costruire </a:t>
            </a:r>
            <a:r>
              <a:rPr b="1" i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artnerships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ra i partecipanti di ogni settore durante tutto il ciclo di vita dei materiali per garantire la sostenibilità della loro produzione, utilizzazione e dismiss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entre i partecipanti di ogni settore sono responsabili della stewardship nel proprio settore, un principio fondamentale della stewardship è che questi si preoccupino anche del ciclo di vita delle altre industri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Image3 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ffffff"/>
                </a:solidFill>
                <a:latin typeface="Arial"/>
              </a:rPr>
              <a:t>Stewardship (continu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523880"/>
            <a:ext cx="5334120" cy="5029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514600"/>
            <a:ext cx="2210040" cy="22096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2514600"/>
            <a:ext cx="2133720" cy="2133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4114800"/>
            <a:ext cx="2133720" cy="2133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5040" y="182880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wardship dei materi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6760" y="304812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teward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lle riso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5560" y="31240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ward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 pro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7480" y="47242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ward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 prodo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Image3 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ffffff"/>
                </a:solidFill>
                <a:latin typeface="Arial"/>
              </a:rPr>
              <a:t>Stewardship (continu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60" y="1143000"/>
            <a:ext cx="86619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tewardship delle ris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 programma di azione che garantisca un uso appropriato ed efficiente de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isorse utilizzate durante un processo produttivo (minerali, acqua, prodotti chimic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nerg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5040" y="2819520"/>
            <a:ext cx="8730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tewardship di pro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 programma di azione che garantisca che i diversi stadi produttivi vengano svol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 un modo socialmente e ambientalmente responsab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2520" y="4419720"/>
            <a:ext cx="90428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tewardship di prodo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 programma di azione che permetta di minimizzare l’impatto ambienatle deriv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ll’uso di un determinato prodotto – dalla produzione alla distribuzione, all’offer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 servizi, alla gestione del fine di vita – attraverso un modo diverso di concepire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segnare il prodotto e controlli, anche di carattere legislativ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urante tutto il ciclo di vita del prodotto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Image3 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ffffff"/>
                </a:solidFill>
                <a:latin typeface="Arial"/>
              </a:rPr>
              <a:t>I Vantaggi della Stewardship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2600" y="1143000"/>
            <a:ext cx="83275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Riduzione nel consumo di energia e acqua e di altre risorse ausiliarie nel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produzione e utilizzo del materiale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Riduzione dei livelli di emissione che possono essere dannosi alle persone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all’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Riduzione dei rifiuti e massimizzazione delle opportunità di riuso e riciclagg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4038480"/>
            <a:ext cx="87631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0000"/>
                </a:solidFill>
                <a:latin typeface="Calibri"/>
              </a:rPr>
              <a:t>Un elemento distintivo della Stewardship è la tempestiva comunicazione di informazioni a coloro che sono a vario titolo coinvolti nel ciclo di vita del prodott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09:54:47Z</dcterms:created>
  <dc:creator>Salvatore Pinizzotto</dc:creator>
  <dc:description/>
  <dc:language>en-US</dc:language>
  <cp:lastModifiedBy>Ci.Ni..Geo</cp:lastModifiedBy>
  <dcterms:modified xsi:type="dcterms:W3CDTF">2007-06-01T09:35:15Z</dcterms:modified>
  <cp:revision>56</cp:revision>
  <dc:subject/>
  <dc:title>Presentazione di PowerPoint</dc:title>
</cp:coreProperties>
</file>